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F624-6005-4631-B126-97A58CBBD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D82-4DD3-4261-9CE4-B2816422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5457-F4C7-4DB8-9C44-161CABB3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212-6F5C-4A0F-81DA-1E4D3B4A7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DF6-D7C6-4975-B793-85F4B52E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8B0-DD05-4390-BA88-99599B0C4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658-901C-470E-B540-C8423DE2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D581-8FE0-418B-802D-B1E2CB0F6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F7C5-6D31-45D8-8300-1E436860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1B5-61DD-4B88-93D8-D1DF7E69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74AE-65BF-46F0-B899-BA104C15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53C6-124F-45BF-97B4-0CD82011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2E13-B67F-4E83-A485-F1DB9A030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人大太天月日明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又 友文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朋友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frien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这天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</a:t>
            </a: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this da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文人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schola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898989"/>
                </a:solidFill>
                <a:latin typeface="Calibri"/>
                <a:ea typeface="MS PGothic"/>
              </a:rPr>
              <a:t>人人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MS PGothic"/>
              </a:rPr>
              <a:t>=peop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898989"/>
                </a:solidFill>
                <a:latin typeface="Calibri"/>
                <a:ea typeface="宋体"/>
              </a:rPr>
              <a:t>又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___</a:t>
            </a:r>
            <a:r>
              <a:rPr b="0" lang="zh-CN" sz="2200" spc="-1" strike="noStrike">
                <a:solidFill>
                  <a:srgbClr val="898989"/>
                </a:solidFill>
                <a:latin typeface="Calibri"/>
                <a:ea typeface="宋体"/>
              </a:rPr>
              <a:t>又 </a:t>
            </a:r>
            <a:r>
              <a:rPr b="0" lang="en-US" sz="2200" spc="-1" strike="noStrike">
                <a:solidFill>
                  <a:srgbClr val="898989"/>
                </a:solidFill>
                <a:latin typeface="Calibri"/>
                <a:ea typeface="宋体"/>
              </a:rPr>
              <a:t>___ =not only ___ but also 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这个朋友又好又日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5" descr="C:\Documents and Settings\lsabey\Local Settings\Temporary Internet Files\Content.IE5\XSJY32GK\MPj04392480000[1].jpg"/>
          <p:cNvPicPr/>
          <p:nvPr/>
        </p:nvPicPr>
        <p:blipFill>
          <a:blip r:embed="rId1"/>
          <a:stretch/>
        </p:blipFill>
        <p:spPr>
          <a:xfrm>
            <a:off x="2438280" y="1523880"/>
            <a:ext cx="4572000" cy="4919760"/>
          </a:xfrm>
          <a:prstGeom prst="rect">
            <a:avLst/>
          </a:prstGeom>
          <a:ln w="0">
            <a:noFill/>
          </a:ln>
        </p:spPr>
      </p:pic>
      <p:pic>
        <p:nvPicPr>
          <p:cNvPr id="46" name="~PP2624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这天她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帮助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老人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xiang3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bang1zhu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宋体"/>
              </a:rPr>
              <a:t>          </a:t>
            </a:r>
            <a:r>
              <a:rPr b="0" lang="en-US" sz="1300" spc="-1" strike="noStrike">
                <a:solidFill>
                  <a:srgbClr val="ff0000"/>
                </a:solidFill>
                <a:latin typeface="Calibri"/>
                <a:ea typeface="宋体"/>
              </a:rPr>
              <a:t>la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5" descr="C:\Documents and Settings\lsabey\Local Settings\Temporary Internet Files\Content.IE5\XSJY32GK\MPj04075010000[1].jpg"/>
          <p:cNvPicPr/>
          <p:nvPr/>
        </p:nvPicPr>
        <p:blipFill>
          <a:blip r:embed="rId1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  <p:pic>
        <p:nvPicPr>
          <p:cNvPr id="50" name="~PP574.WAV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明天他</a:t>
            </a:r>
            <a:r>
              <a:rPr b="0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想帮助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朋友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xiang3 bang1zhu4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  wanted to help</a:t>
            </a:r>
            <a:br>
              <a:rPr sz="3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3" descr="C:\Documents and Settings\lsabey\Local Settings\Temporary Internet Files\Content.IE5\FGJUL90C\MPj04388130000[1].jpg"/>
          <p:cNvPicPr/>
          <p:nvPr/>
        </p:nvPicPr>
        <p:blipFill>
          <a:blip r:embed="rId1"/>
          <a:stretch/>
        </p:blipFill>
        <p:spPr>
          <a:xfrm>
            <a:off x="3657600" y="2819520"/>
            <a:ext cx="254016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~PP1786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  <a:ea typeface="MS PGothic"/>
              </a:rPr>
              <a:t>天天她 帮助人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C:\Documents and Settings\lsabey\Local Settings\Temporary Internet Files\Content.IE5\7ARHBD3L\MPj04394670000[1].jpg"/>
          <p:cNvPicPr/>
          <p:nvPr/>
        </p:nvPicPr>
        <p:blipFill>
          <a:blip r:embed="rId1"/>
          <a:stretch/>
        </p:blipFill>
        <p:spPr>
          <a:xfrm>
            <a:off x="671400" y="1523880"/>
            <a:ext cx="7558200" cy="4632480"/>
          </a:xfrm>
          <a:prstGeom prst="rect">
            <a:avLst/>
          </a:prstGeom>
          <a:ln w="0">
            <a:noFill/>
          </a:ln>
        </p:spPr>
      </p:pic>
      <p:pic>
        <p:nvPicPr>
          <p:cNvPr id="58" name="~PP3534.WAV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54:01Z</dcterms:created>
  <dc:creator>itsuser</dc:creator>
  <dc:description/>
  <dc:language>en-US</dc:language>
  <cp:lastModifiedBy>itsuser</cp:lastModifiedBy>
  <dcterms:modified xsi:type="dcterms:W3CDTF">2009-04-16T19:38:59Z</dcterms:modified>
  <cp:revision>6</cp:revision>
  <dc:subject/>
  <dc:title>人大太天月日明朋 又 友文这</dc:title>
</cp:coreProperties>
</file>